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DEA-95DD-497F-BF05-F4FD980B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D490-B640-41BA-B58C-9B477363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76CB-5F13-49FF-91CA-C68E40B3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3705-FCE0-48AB-9756-7A8B49094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5DCB-C04A-47BE-AE08-B403B0D3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E6F4-576E-4211-B7A8-AF1AC79D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45F7-3C10-49F3-8B5D-CD03471C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C5B-6CEC-4597-B160-61F6E976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93D6-CE78-4F08-A54A-8060FC4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18D9-7E16-4B2A-A0A5-24FA3A1F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64BE6-310A-4F4B-A59C-81FE1887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986-DCB8-4915-99A5-446C1371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160F-0ED2-4A03-945A-77378B3B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0B55-48A8-4CF4-A906-C6F334D7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1072-5F67-4A7F-890A-1DCB499B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C620-F0D5-4BF6-B961-BDF3F73F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3462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5EA-8F49-4DF6-92AD-701EDF7C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4902-5E0B-4D22-B404-15D987C2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6AE-593C-478A-99B2-F4A118A0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9883-E43C-45EE-BFDA-4473DC7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1C9-4F16-46A2-A99F-1EED5CCF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649-9E11-4BC7-AA23-20EA966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3462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C8DC-7C91-40CB-9D71-18C12D06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F2C-C8D1-4BE1-B8A1-383264A9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1F75-C65F-4910-AF74-1EDAF4A98A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E2C8-8CD3-4668-805B-BA8D9EEC5C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0" y="48006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merica Past and Pres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ghth Edi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 Breen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 Williams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0" lang="en-US" sz="24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PTER 2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World Experiments</a:t>
            </a:r>
            <a:br>
              <a:rPr sz="44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ngland’s Seventeenth-Century Coloni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inking Weed”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10—John Rolfe introduced tobac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18—Reforms of Edwin Sandy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use of Burgesses instituted for Virginia self-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dright: 50-acre lot granted to each colonist who paid his own transportation, or for each servant brought into the colon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llowed development of huge estat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ime of Reckon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pulation increase prevented by imbalanced sex rat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3570 colonists to Virginia, 1619-162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 outnumbered women 6:1 after 1619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gious disease killed sett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18: Virginia population numbered 70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18-1622: 3000 immigra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22: Virginia population numbered 124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ntured servants denied promised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22—Powhattan attack killed 347 sett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rruption and Refo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blems of colony blamed on greed and mismanagement of London Compa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24—King James I dissolved London Company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irginia became a royal col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use of Burgesses continued to me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rgesses created County Cour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yland: A Troubled Refuge for Cathol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itiated by Sir George Calvert (Lord Baltimore) as refuge for English Cathol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32—Calvert’s son Cecilius (second Lord Baltimore) gained charter to Marylan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quired toleration among Catholics and Protestant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yland: A Troubled Refuge for Cathol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althy Catholics unwilling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-locate in Amer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mon settlers demanded greater voice in Maryland 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testants refused to tolerate Catholics and seized control in 16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attered riverfront settlements of poor tobacco planter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orming England in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ilgrim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aratists who refused to worship in the Church of Englan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led to Holland to escape persecu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rried that children were becoming too Dut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20—Plymouth founde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yflower Compa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iam Bradford and Squanto ensured colony survi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91—absorbed into Massachusetts Ba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Great Migration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itan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ed within the Church of England to eliminate remaining vestiges of Catholicis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itans saw Stuarts as unconcerned with needed church refor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30—John Winthrop led Puritan group to Massachusetts with charter giving them power to make decisions without direction from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City on a Hill”: Settle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30-1640—16,000 immigra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tlers usually came as family uni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ea settled generally 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ritans view of their colony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ccess as part of covenant with G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 “beacon of righteousness” to the wor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urch attendance required, but membership not automat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City on a Hill”: Poli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lic confession and execution of crimin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by elected representatives responsible to G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adult male church members could vo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nisters had no formal role and were prohibited from holding off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wn was center of Puritan 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mits of Religious Dissen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Laws and Liberties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164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dified rights and responsibilities of citiz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endered public trust in 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pt magistrates from arbitrary ru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ritans did not tolerate religious diss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reaking Aw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pid social change in seventeenth-century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 population mob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fferent motives for immig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us versus econom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nal: to escape bad marriages, jail terms, or lifelong pover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mits of Religious Dissent: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oger William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treme separatis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estioned validity of colony’s charter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Advocated toleration of religious belief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Expelled to Rhode Island, 1636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mits of Religious Dissent: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ne Hutch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aimed direct divine inspiration by the Holy Spir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ggested most Puritan ministers were no better than those of Church of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views called the established church into ques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r actions challenged accepted behavior of women in this ti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nished to Rhode Island in 163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bility and Divi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Hampshire—1677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 a separate colony from Massachusetts Ba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necticut—1636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rst settlements led by Thomas Hook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62, king granted a char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Haven—absorbed into Connecticu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hode Island—1636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der Roger Williams, it accepted dissenters from Massachuset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leration, but much infight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63, king granted a char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England Colonies, 165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rcRect l="1758" t="1495" r="1721" b="1495"/>
          <a:stretch/>
        </p:blipFill>
        <p:spPr>
          <a:xfrm>
            <a:off x="2438280" y="1523880"/>
            <a:ext cx="4191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versity in the Middle Colon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Y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Jers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nsylvan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law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ddle Colonies, 168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1812" t="1570" r="2114" b="2652"/>
          <a:stretch/>
        </p:blipFill>
        <p:spPr>
          <a:xfrm>
            <a:off x="2438280" y="1600200"/>
            <a:ext cx="4038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glo-Dutch Rivalry on the Hud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utch most aggressive European trad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Netherlands—two settl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rt Orange on Hudson (Albany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w Amsterdam on Manhattan Islan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Amsterdam very diverse: eighteen different languages in use by 1644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64—colony captured by English flee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utch can keep proper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nglo-Dutch Rivalry on the Hud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rea given to king’s brother, James, Duke of Y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perty included New York, New Jersey, Delaware, Maine, and islan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uke’s laws guaranteed religious toleration and created local 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habitants had no political voice beyond the local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fusion in New Jers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gave New Jersey to Lord Berkeley and Sir George Carter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land titles already given by New Yo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fusion over who had right to grant land and organize govern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rkeley split colony by selling out to Quaker grou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-united in 1702 as single royal colo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kers in Amer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nnsylvania founding inseparable from Quak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kers believed no need for a formal ministry; each person’s interpretation of scripture is equally val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ker” a derogatory term for those who “tremble at the word of the Lord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mbers called sect “Society of Friends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Stuart Monarc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482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uaker Beliefs and Pract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nder: George Fox (1624-1691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lieved in “Inner Light”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jected predestination; anyone could be sav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phasized values of humility, simplicity, and pacifis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secuted as dangerous anarch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enn’s “Holy Experimen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istocrat William Penn became a Quaker leade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ranted charter for Pennsylvania; bought Delaware from New Jersey proprietors, insuring ocean 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ly Experiment”—a society run on Quaker princip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moted religious tole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alance of power between rich and p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litical structure failed because it was too cumberso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ling Pennsylva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nn’s income came from land sales to settl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ttlers recruited from England, Wales, Ireland, and German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versity caused conflic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ker population racked by conten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n-Quaker population did not share Quaker ide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701—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Charter of Liber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lf-rule to Pennsylvan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parated Delawa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lanting the Carolina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iance on slave labor produced superficial similarity to Chesape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versity of settlers and environment produced great divergence from Chesape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prietors of the Carolin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anted by Charles II in 1663 to eight “Proprietors” to reward loyal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ied to recruit settlers from established American colon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w inhabitants in first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arbadian Conn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thony Ashley Cooper encouraged settlement by planters from Barb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rbadians settled around Charleston, re-created plantation system of Barbad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ice eventually became the staple cro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undamental Constitutions of Carolina” drawn up by John Lock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jected by population that desired greater self-gover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nch Huguenot settlers opposed Barbadi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719—last governor appointed by proprietors overthrow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729—king takes over and splits the colony into northern and southern hal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Founding of Geor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orgia founded in 1732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ames Oglethorpe’s ide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c purpose: buffer between Carolinas and Spanish Florid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itable purpose: refuge for imprisoned debtors from Eng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ly rum and slaves prohibited, landowning capp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glethorpe’s ideas unpopular and repealed by 175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00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arolinas and Georg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rcRect l="1913" t="1449" r="2394" b="1449"/>
          <a:stretch/>
        </p:blipFill>
        <p:spPr>
          <a:xfrm>
            <a:off x="2743200" y="1447920"/>
            <a:ext cx="380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ving with Divers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colonies faced early struggle to surviv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tinct regional differences intensified and persisted throughout the colonial period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hallenge of the eighteenth century was how to create unity out of that divers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glish Civil War and Glorious Revolu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glish Civil War, 1640-164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art Monarchy vs. Parli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arles I behea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liver Cromwell made Lord Prot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uarts restored with Charles II, 16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orious Revolution, 16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lliam and Mary replaced James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tablished that monarchs must rule with Parli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ur Colonial Subcult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hesapea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Engl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ddle Colon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Carolin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Chesapeake: 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reams of Weal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chard Hakluy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es make great profit for inves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 England from dependence on rival powers for valuable commod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ti-Catholicism prompted English people to challenge Spanish claims in New Worl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ntrepreneurs in Virgi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int-stock companies provided financ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glish stockholders in Virginia Company expected instant profi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amestown settled in 160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y’s location in a swamp unhealth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etition from expansive Powhatt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lonists did not work for common good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esapeake Colonies, 164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rcRect l="2300" t="1449" r="3400" b="1449"/>
          <a:stretch/>
        </p:blipFill>
        <p:spPr>
          <a:xfrm>
            <a:off x="2971800" y="1371600"/>
            <a:ext cx="31240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inning Out of Contro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08-1609—John Smith imposed ord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09—London Company re-organized colonial govern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610— “Starving Time” ended by arrival of Lord De La Warr, fresh settlers, and martial la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flict with Powhatt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ributed to “starving time”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22—natives attempted to drive out Englis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644—second attempt to drive out English; Powhattan empire destroy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resa Ward User</cp:lastModifiedBy>
  <dcterms:modified xsi:type="dcterms:W3CDTF">2006-11-08T19:11:17Z</dcterms:modified>
  <cp:revision>12</cp:revision>
  <dc:subject/>
  <dc:title>CHAPTER 2 New World Encounters England’s Seventeenth-Century Colonies</dc:title>
</cp:coreProperties>
</file>